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453-A6E9-4094-97FE-F4F53B22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5B7-3D7F-4E5B-A2C1-D5F70636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82E-C369-4FEF-9B01-86C6CDB8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68E-36DD-48AD-96BB-01D48EA6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1DC-63B4-4044-B499-117B494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328-7FD6-408D-85EF-B8ED49D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7F2-7DC0-44B9-A83D-BCABD61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37A-859A-4B2F-8FBC-737E446B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E11-4499-45F1-9BAA-F7F35B8A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C3C-95F7-4F91-AB6B-6820520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43F-114B-454E-B5AE-1F78EFF4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0D6-CC0C-4785-BACB-970B81C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978-336A-4963-94ED-A353C18C9C6E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23640" y="2708280"/>
            <a:ext cx="5256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quilíbrio Energético e Atividade Fí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788000" y="5229360"/>
            <a:ext cx="4032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fessora Isabel Milheir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fessor António Alme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grupamento Escolas D. Pedro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B 2,3 de Canid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389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Natação - Cra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18" descr="stock-photo-man-swimming-during-a-competition-17370565"/>
          <p:cNvPicPr/>
          <p:nvPr/>
        </p:nvPicPr>
        <p:blipFill>
          <a:blip r:embed="rId1"/>
          <a:stretch/>
        </p:blipFill>
        <p:spPr>
          <a:xfrm>
            <a:off x="539640" y="1519200"/>
            <a:ext cx="4896000" cy="3467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1547640" y="4797360"/>
            <a:ext cx="2737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535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Basquetebol - j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42920" y="508464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17" descr="88066725"/>
          <p:cNvPicPr/>
          <p:nvPr/>
        </p:nvPicPr>
        <p:blipFill>
          <a:blip r:embed="rId1"/>
          <a:stretch/>
        </p:blipFill>
        <p:spPr>
          <a:xfrm>
            <a:off x="179280" y="1268280"/>
            <a:ext cx="4535640" cy="3032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0"/>
          <p:cNvSpPr/>
          <p:nvPr/>
        </p:nvSpPr>
        <p:spPr>
          <a:xfrm>
            <a:off x="5219640" y="836640"/>
            <a:ext cx="39243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Futebol - j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107428960"/>
          <p:cNvPicPr/>
          <p:nvPr/>
        </p:nvPicPr>
        <p:blipFill>
          <a:blip r:embed="rId2"/>
          <a:stretch/>
        </p:blipFill>
        <p:spPr>
          <a:xfrm>
            <a:off x="5435640" y="2133720"/>
            <a:ext cx="31478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5113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Bicicleta montan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17" descr="86541602"/>
          <p:cNvPicPr/>
          <p:nvPr/>
        </p:nvPicPr>
        <p:blipFill>
          <a:blip r:embed="rId1"/>
          <a:stretch/>
        </p:blipFill>
        <p:spPr>
          <a:xfrm>
            <a:off x="324000" y="2276640"/>
            <a:ext cx="2390760" cy="35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360" y="-360"/>
            <a:ext cx="41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Verdana"/>
              </a:rPr>
              <a:t>Quantas calor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MacChic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Batata Mé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Cola M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Sundae de Choc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201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2340000" y="1268280"/>
          <a:ext cx="145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145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3" descr="sundae_chocolate"/>
          <p:cNvPicPr/>
          <p:nvPr/>
        </p:nvPicPr>
        <p:blipFill>
          <a:blip r:embed="rId3"/>
          <a:stretch/>
        </p:blipFill>
        <p:spPr>
          <a:xfrm>
            <a:off x="395280" y="4437000"/>
            <a:ext cx="1312920" cy="88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bebidas"/>
          <p:cNvPicPr/>
          <p:nvPr/>
        </p:nvPicPr>
        <p:blipFill>
          <a:blip r:embed="rId4"/>
          <a:stretch/>
        </p:blipFill>
        <p:spPr>
          <a:xfrm>
            <a:off x="2487600" y="345924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batata_grande"/>
          <p:cNvPicPr/>
          <p:nvPr/>
        </p:nvPicPr>
        <p:blipFill>
          <a:blip r:embed="rId5"/>
          <a:stretch/>
        </p:blipFill>
        <p:spPr>
          <a:xfrm>
            <a:off x="250920" y="2421000"/>
            <a:ext cx="1552320" cy="104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6"/>
          <a:stretch/>
        </p:blipFill>
        <p:spPr>
          <a:xfrm>
            <a:off x="6516720" y="1557360"/>
            <a:ext cx="2376360" cy="1562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643280" y="1916280"/>
            <a:ext cx="42498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Pizz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Mousse de Choco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Col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497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82659783"/>
          <p:cNvPicPr/>
          <p:nvPr/>
        </p:nvPicPr>
        <p:blipFill>
          <a:blip r:embed="rId7"/>
          <a:stretch/>
        </p:blipFill>
        <p:spPr>
          <a:xfrm>
            <a:off x="4989600" y="2421000"/>
            <a:ext cx="109512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86364916, Kutay Tanir /Photodisc"/>
          <p:cNvPicPr/>
          <p:nvPr/>
        </p:nvPicPr>
        <p:blipFill>
          <a:blip r:embed="rId8"/>
          <a:stretch/>
        </p:blipFill>
        <p:spPr>
          <a:xfrm>
            <a:off x="7524720" y="4076640"/>
            <a:ext cx="8622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94" name="Retângulo de cantos arredondados 16"/>
          <p:cNvGrpSpPr/>
          <p:nvPr/>
        </p:nvGrpSpPr>
        <p:grpSpPr>
          <a:xfrm>
            <a:off x="-30240" y="1311120"/>
            <a:ext cx="4486320" cy="4956480"/>
            <a:chOff x="-30240" y="1311120"/>
            <a:chExt cx="4486320" cy="4956480"/>
          </a:xfrm>
        </p:grpSpPr>
        <p:pic>
          <p:nvPicPr>
            <p:cNvPr id="95" name="Retângulo de cantos arredondados 16" descr=""/>
            <p:cNvPicPr/>
            <p:nvPr/>
          </p:nvPicPr>
          <p:blipFill>
            <a:blip r:embed="rId9"/>
            <a:stretch/>
          </p:blipFill>
          <p:spPr>
            <a:xfrm>
              <a:off x="-30240" y="1311120"/>
              <a:ext cx="4486320" cy="49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6000" y="1557360"/>
              <a:ext cx="399564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tângulo de cantos arredondados 17"/>
          <p:cNvGrpSpPr/>
          <p:nvPr/>
        </p:nvGrpSpPr>
        <p:grpSpPr>
          <a:xfrm>
            <a:off x="4535640" y="1305000"/>
            <a:ext cx="4468680" cy="5040360"/>
            <a:chOff x="4535640" y="1305000"/>
            <a:chExt cx="4468680" cy="5040360"/>
          </a:xfrm>
        </p:grpSpPr>
        <p:pic>
          <p:nvPicPr>
            <p:cNvPr id="98" name="Retângulo de cantos arredondados 17" descr=""/>
            <p:cNvPicPr/>
            <p:nvPr/>
          </p:nvPicPr>
          <p:blipFill>
            <a:blip r:embed="rId10"/>
            <a:stretch/>
          </p:blipFill>
          <p:spPr>
            <a:xfrm>
              <a:off x="4535640" y="1305000"/>
              <a:ext cx="44686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86200" y="1555920"/>
              <a:ext cx="396396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Quanto tempo para gastar estas calor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MacChicken  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Batata Mé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Cola M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dia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Sundae de Chocol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201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2627280" y="1052640"/>
          <a:ext cx="145908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052640"/>
                    <a:ext cx="14590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3" descr="sundae_chocolate"/>
          <p:cNvPicPr/>
          <p:nvPr/>
        </p:nvPicPr>
        <p:blipFill>
          <a:blip r:embed="rId3"/>
          <a:stretch/>
        </p:blipFill>
        <p:spPr>
          <a:xfrm>
            <a:off x="611280" y="4508640"/>
            <a:ext cx="1312920" cy="88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bebidas"/>
          <p:cNvPicPr/>
          <p:nvPr/>
        </p:nvPicPr>
        <p:blipFill>
          <a:blip r:embed="rId4"/>
          <a:stretch/>
        </p:blipFill>
        <p:spPr>
          <a:xfrm>
            <a:off x="2916360" y="3429000"/>
            <a:ext cx="136188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atata_grande"/>
          <p:cNvPicPr/>
          <p:nvPr/>
        </p:nvPicPr>
        <p:blipFill>
          <a:blip r:embed="rId5"/>
          <a:stretch/>
        </p:blipFill>
        <p:spPr>
          <a:xfrm>
            <a:off x="684360" y="2421000"/>
            <a:ext cx="1552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07" name="Retângulo de cantos arredondados 16"/>
          <p:cNvGrpSpPr/>
          <p:nvPr/>
        </p:nvGrpSpPr>
        <p:grpSpPr>
          <a:xfrm>
            <a:off x="219240" y="1238400"/>
            <a:ext cx="4492440" cy="4954320"/>
            <a:chOff x="219240" y="1238400"/>
            <a:chExt cx="4492440" cy="4954320"/>
          </a:xfrm>
        </p:grpSpPr>
        <p:pic>
          <p:nvPicPr>
            <p:cNvPr id="108" name="Retângulo de cantos arredondados 16" descr=""/>
            <p:cNvPicPr/>
            <p:nvPr/>
          </p:nvPicPr>
          <p:blipFill>
            <a:blip r:embed="rId6"/>
            <a:stretch/>
          </p:blipFill>
          <p:spPr>
            <a:xfrm>
              <a:off x="219240" y="1238400"/>
              <a:ext cx="4492440" cy="49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68360" y="1484280"/>
              <a:ext cx="399564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5219640" y="1700280"/>
          <a:ext cx="3672000" cy="41036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</a:tblGrid>
              <a:tr h="658080">
                <a:tc rowSpan="2"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dade 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gridSpan="2"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sto Energético (Kcal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h3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h5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ç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3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5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te/Cor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29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1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h5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423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quetebo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e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1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h5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56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0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h4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37636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4643280" y="1916280"/>
            <a:ext cx="424980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Pizz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Mousse de Choco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Cola Méd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1497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82659783"/>
          <p:cNvPicPr/>
          <p:nvPr/>
        </p:nvPicPr>
        <p:blipFill>
          <a:blip r:embed="rId2"/>
          <a:stretch/>
        </p:blipFill>
        <p:spPr>
          <a:xfrm>
            <a:off x="4989600" y="2421000"/>
            <a:ext cx="109512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86364916, Kutay Tanir /Photodisc"/>
          <p:cNvPicPr/>
          <p:nvPr/>
        </p:nvPicPr>
        <p:blipFill>
          <a:blip r:embed="rId3"/>
          <a:stretch/>
        </p:blipFill>
        <p:spPr>
          <a:xfrm>
            <a:off x="7524720" y="4076640"/>
            <a:ext cx="8622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15" name="Retângulo de cantos arredondados 17"/>
          <p:cNvGrpSpPr/>
          <p:nvPr/>
        </p:nvGrpSpPr>
        <p:grpSpPr>
          <a:xfrm>
            <a:off x="4638600" y="1305000"/>
            <a:ext cx="4469040" cy="5040360"/>
            <a:chOff x="4638600" y="1305000"/>
            <a:chExt cx="4469040" cy="5040360"/>
          </a:xfrm>
        </p:grpSpPr>
        <p:pic>
          <p:nvPicPr>
            <p:cNvPr id="116" name="Retângulo de cantos arredondados 17" descr=""/>
            <p:cNvPicPr/>
            <p:nvPr/>
          </p:nvPicPr>
          <p:blipFill>
            <a:blip r:embed="rId4"/>
            <a:stretch/>
          </p:blipFill>
          <p:spPr>
            <a:xfrm>
              <a:off x="4638600" y="1305000"/>
              <a:ext cx="44690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890960" y="1555920"/>
              <a:ext cx="3963960" cy="45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250920" y="1557360"/>
          <a:ext cx="4319640" cy="474984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40000"/>
              </a:tblGrid>
              <a:tr h="776160">
                <a:tc rowSpan="2"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dade 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sto Energético (Kcal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624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h53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h0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ç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h37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h1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te/Corr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h05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42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4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23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7804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quetebo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e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4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23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15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34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10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9"/>
          <p:cNvSpPr/>
          <p:nvPr/>
        </p:nvSpPr>
        <p:spPr>
          <a:xfrm>
            <a:off x="826920" y="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Quanto tempo para gastar estas calor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432108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id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5280" y="1268280"/>
            <a:ext cx="4032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gundo a Organização Mundial de Saúde, “o exercício físico regular tal como caminhar, andar de bicicleta ou dançar, não só nos faz sentir bem, como tem significativos benefícios para a saúde (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nvolver-se numa actividade física, aumenta também as oportunidades para fazer amigos e de se sentir integrado na comun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QUENAS MUDANÇAS FAZEM A DIFERENÇ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88551646"/>
          <p:cNvPicPr/>
          <p:nvPr/>
        </p:nvPicPr>
        <p:blipFill>
          <a:blip r:embed="rId1"/>
          <a:stretch/>
        </p:blipFill>
        <p:spPr>
          <a:xfrm>
            <a:off x="4570560" y="981000"/>
            <a:ext cx="4573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603440" y="446040"/>
            <a:ext cx="638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 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quadro1a"/>
          <p:cNvPicPr/>
          <p:nvPr/>
        </p:nvPicPr>
        <p:blipFill>
          <a:blip r:embed="rId1"/>
          <a:stretch/>
        </p:blipFill>
        <p:spPr>
          <a:xfrm>
            <a:off x="1467000" y="2050920"/>
            <a:ext cx="620712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quadro2a"/>
          <p:cNvPicPr/>
          <p:nvPr/>
        </p:nvPicPr>
        <p:blipFill>
          <a:blip r:embed="rId1"/>
          <a:stretch/>
        </p:blipFill>
        <p:spPr>
          <a:xfrm>
            <a:off x="1467000" y="2050920"/>
            <a:ext cx="6207120" cy="275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1603440" y="446040"/>
            <a:ext cx="638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 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quadro3"/>
          <p:cNvPicPr/>
          <p:nvPr/>
        </p:nvPicPr>
        <p:blipFill>
          <a:blip r:embed="rId1"/>
          <a:stretch/>
        </p:blipFill>
        <p:spPr>
          <a:xfrm>
            <a:off x="1468440" y="2050920"/>
            <a:ext cx="6203880" cy="275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603440" y="446040"/>
            <a:ext cx="6386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 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quadro3"/>
          <p:cNvPicPr/>
          <p:nvPr/>
        </p:nvPicPr>
        <p:blipFill>
          <a:blip r:embed="rId1"/>
          <a:stretch/>
        </p:blipFill>
        <p:spPr>
          <a:xfrm>
            <a:off x="179280" y="1268280"/>
            <a:ext cx="6203880" cy="2756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211640" y="476280"/>
            <a:ext cx="4321080" cy="628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5b7b8c"/>
                </a:solidFill>
                <a:latin typeface="DIN-Medium"/>
              </a:rPr>
              <a:t>Equil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 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9280" y="508464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equilíbrio energético positivo de 2Kcal/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Kg em 1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476360" y="5516640"/>
            <a:ext cx="503280" cy="288720"/>
          </a:xfrm>
          <a:custGeom>
            <a:avLst/>
            <a:gdLst>
              <a:gd name="textAreaLeft" fmla="*/ 67320 w 503280"/>
              <a:gd name="textAreaRight" fmla="*/ 435960 w 503280"/>
              <a:gd name="textAreaTop" fmla="*/ 50400 h 288720"/>
              <a:gd name="textAreaBottom" fmla="*/ 209520 h 28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Balanço energético"/>
          <p:cNvPicPr/>
          <p:nvPr/>
        </p:nvPicPr>
        <p:blipFill>
          <a:blip r:embed="rId2"/>
          <a:stretch/>
        </p:blipFill>
        <p:spPr>
          <a:xfrm>
            <a:off x="5718240" y="4430880"/>
            <a:ext cx="2957400" cy="2022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24000" y="4292640"/>
            <a:ext cx="5184720" cy="628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5b7b8c"/>
                </a:solidFill>
                <a:latin typeface="DIN-Medium"/>
              </a:rPr>
              <a:t>(Des) Equil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íbrio</a:t>
            </a:r>
            <a:r>
              <a:rPr b="0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 </a:t>
            </a:r>
            <a:r>
              <a:rPr b="1" lang="pt-PT" sz="3000" spc="-1" strike="noStrike">
                <a:solidFill>
                  <a:srgbClr val="5b7b8c"/>
                </a:solidFill>
                <a:latin typeface="DIN-Medium"/>
                <a:ea typeface="MS PGothic"/>
              </a:rPr>
              <a:t>Energé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389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ar Sen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07429007"/>
          <p:cNvPicPr/>
          <p:nvPr/>
        </p:nvPicPr>
        <p:blipFill>
          <a:blip r:embed="rId1"/>
          <a:stretch/>
        </p:blipFill>
        <p:spPr>
          <a:xfrm>
            <a:off x="4505400" y="1197000"/>
            <a:ext cx="463860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102674991"/>
          <p:cNvPicPr/>
          <p:nvPr/>
        </p:nvPicPr>
        <p:blipFill>
          <a:blip r:embed="rId2"/>
          <a:stretch/>
        </p:blipFill>
        <p:spPr>
          <a:xfrm>
            <a:off x="0" y="3068640"/>
            <a:ext cx="451476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352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S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26920" y="429264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7" descr="95009448"/>
          <p:cNvPicPr/>
          <p:nvPr/>
        </p:nvPicPr>
        <p:blipFill>
          <a:blip r:embed="rId1"/>
          <a:stretch/>
        </p:blipFill>
        <p:spPr>
          <a:xfrm>
            <a:off x="5076720" y="1197000"/>
            <a:ext cx="29480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5113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D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03640" y="5157720"/>
          <a:ext cx="3754440" cy="137160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18" descr="stock-vector-people-jumping-vector-8309284"/>
          <p:cNvPicPr/>
          <p:nvPr/>
        </p:nvPicPr>
        <p:blipFill>
          <a:blip r:embed="rId1"/>
          <a:stretch/>
        </p:blipFill>
        <p:spPr>
          <a:xfrm>
            <a:off x="900000" y="1341360"/>
            <a:ext cx="3930840" cy="410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116000" y="5229360"/>
            <a:ext cx="2735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389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Sk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95640" y="5229360"/>
          <a:ext cx="3754440" cy="1371600"/>
        </p:xfrm>
        <a:graphic>
          <a:graphicData uri="http://schemas.openxmlformats.org/drawingml/2006/table">
            <a:tbl>
              <a:tblPr/>
              <a:tblGrid>
                <a:gridCol w="1877760"/>
                <a:gridCol w="18766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Energético (Kcal)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17" descr="97422473"/>
          <p:cNvPicPr/>
          <p:nvPr/>
        </p:nvPicPr>
        <p:blipFill>
          <a:blip r:embed="rId1"/>
          <a:stretch/>
        </p:blipFill>
        <p:spPr>
          <a:xfrm>
            <a:off x="0" y="1413000"/>
            <a:ext cx="4321080" cy="30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98266551"/>
          <p:cNvPicPr/>
          <p:nvPr/>
        </p:nvPicPr>
        <p:blipFill>
          <a:blip r:embed="rId2"/>
          <a:stretch/>
        </p:blipFill>
        <p:spPr>
          <a:xfrm>
            <a:off x="4572000" y="1413000"/>
            <a:ext cx="432108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9"/>
          <p:cNvSpPr/>
          <p:nvPr/>
        </p:nvSpPr>
        <p:spPr>
          <a:xfrm>
            <a:off x="4643280" y="404640"/>
            <a:ext cx="3899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rr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1:05:52Z</dcterms:created>
  <dc:creator>Teresa Maia</dc:creator>
  <dc:description/>
  <dc:language>en-US</dc:language>
  <cp:lastModifiedBy>António Almeida</cp:lastModifiedBy>
  <dcterms:modified xsi:type="dcterms:W3CDTF">2012-06-28T17:01:44Z</dcterms:modified>
  <cp:revision>115</cp:revision>
  <dc:subject/>
  <dc:title>Diapositivo 1</dc:title>
</cp:coreProperties>
</file>